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B222-ACA5-471F-AC26-6FB3C18E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3ED5-0136-4454-B998-F73D0F2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2269-6F0E-4E9E-B5C2-3CAD52B9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84D8-DC67-4563-9BA7-5774418D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9F38-EB40-49AD-9EF5-4530C2CF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F560-8A0B-48D5-B7F8-16BA59F9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9250-4C2E-4881-825F-7BAAFA0E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9CB3-3B48-4A91-8DDA-06DFA406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8CE8-3E26-4003-AAF3-3D814038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BE49-65C7-417B-88B5-43D2BB08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78BC-7DE0-4EB4-A791-EDEBE63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CCDF-DBB7-4C10-94A5-EA6BA376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804C-53FA-48F8-8D18-1EA4F1FB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7A2B-A783-4596-A6D2-3180F4D0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BEAC-CCBE-492B-B419-624C9CA1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9ECC-AA28-4F88-8725-0DC3E33F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1CF7-5732-413C-ACC2-409E6A8C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BAD2-9923-407C-B12C-AD9B9BE4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0EA0-CA57-48E0-BE91-1AC722A2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ADCB-E5FE-42B0-8DD1-7F2C151E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C4781-42C6-46DA-8780-C8B201E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8EDE-3E61-4825-92E7-9121EA50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F2DA-F706-4E78-B508-9501C124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4033-C43F-407A-92B5-008741E2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62f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44a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c30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1e1822"/>
                </a:gs>
                <a:gs pos="50000">
                  <a:srgbClr val="251f29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0431-5E83-4417-B3EB-A0DC384581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62f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44a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c30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1e1822"/>
                </a:gs>
                <a:gs pos="50000">
                  <a:srgbClr val="251f29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9769-DDC5-44BD-8EC7-5A6AEBBF7C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Changing Verbs From</a:t>
            </a:r>
            <a:br>
              <a:rPr sz="4800"/>
            </a:b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Present to Past and Future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Gram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60093"/>
                </a:solidFill>
                <a:latin typeface="Tahoma"/>
              </a:rPr>
              <a:t>Changing y to i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present tense verb ends with a y, 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change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y to i and add –ed to make the verb change to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you help me </a:t>
            </a: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car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groceri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carr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m to the kitc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ic asked me to </a:t>
            </a: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mar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im on New Year’s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ot </a:t>
            </a: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marr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August 2, 199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hanging the Spelling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a present tense verb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nges its</a:t>
            </a:r>
            <a:r>
              <a:rPr b="0" lang="en-US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ntire spell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make the verb change to past tense. If it helps say, “Yesterday I ______,” to help find the right word to use in the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unch at 11:3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unch at 11:30 yester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ight in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oo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ight in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Now its your turn!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make these present tense verbs past tense verb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liked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lik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lik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 tak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to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tak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Try Some More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buri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bury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bury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mopp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mop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mo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go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g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w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Future Tense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ture has not yet happened, but we know it 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Tahoma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will to the present tense verb to make the future t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- Today I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t - Yesterday I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w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ture - Tomorrow I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will 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Adding –ing to a present tense verb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the rules used for changing the present tense verb to a past tense verb can also be used when adding –ing to the verb except for changing the spelling and do not drop the “y” when adding –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es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st with-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esent with -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y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pp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p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98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98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98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98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98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98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98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Three Tenses of Verbs</a:t>
            </a:r>
            <a:br>
              <a:rPr sz="3800"/>
            </a:b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457200" y="1600200"/>
            <a:ext cx="8229240" cy="4529520"/>
            <a:chOff x="457200" y="1600200"/>
            <a:chExt cx="8229240" cy="4529520"/>
          </a:xfrm>
        </p:grpSpPr>
        <p:sp>
          <p:nvSpPr>
            <p:cNvPr id="130" name="AutoShape 5"/>
            <p:cNvSpPr/>
            <p:nvPr/>
          </p:nvSpPr>
          <p:spPr>
            <a:xfrm>
              <a:off x="457200" y="1600200"/>
              <a:ext cx="8229240" cy="45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31" name="_s18438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8439"/>
            <p:cNvCxnSpPr>
              <a:stCxn id="135" idx="0"/>
              <a:endCxn id="133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8440"/>
            <p:cNvCxnSpPr>
              <a:stCxn id="137" idx="0"/>
              <a:endCxn id="133" idx="2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3" name="_s18441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976c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0000"/>
                  </a:solidFill>
                  <a:latin typeface="Arial"/>
                </a:rPr>
                <a:t>Verb Tense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18442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976c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ff0000"/>
                  </a:solidFill>
                  <a:latin typeface="Arial"/>
                </a:rPr>
                <a:t>past</a:t>
              </a:r>
              <a:endParaRPr b="0" lang="en-US" sz="6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18443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976c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0000"/>
                  </a:solidFill>
                  <a:latin typeface="Arial"/>
                </a:rPr>
                <a:t>present</a:t>
              </a:r>
              <a:endParaRPr b="0" lang="en-US" sz="5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_s18444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976c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ff0000"/>
                  </a:solidFill>
                  <a:latin typeface="Arial"/>
                </a:rPr>
                <a:t>future</a:t>
              </a:r>
              <a:endParaRPr b="0" lang="en-US" sz="6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Past Tense Verbs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past tense verbs end in “ed”, but there are several rules to use while changing the present to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t tense verbs tell action that has already happe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words change spelling to show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 = begged               grow = gr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ed = fed                    like = li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 = ran                     play = pla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Present Tense Verbs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s that happen now or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present tense verbs have “ing”,  “s”, or “es” on the end of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ue words: now,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s              plays            hikes       dr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es               juggles         fusses     dr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ats            jogs               runs         car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Future tense verbs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verbs have the helping verb “will” in front of them to show they will be happe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ue words to look for are:  tomorrow, some day, next time, or next we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play            will lead          will be hap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have           will eat           will 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From Present to Pas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five ways to change a verb from present tense to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Just add –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Double the final consonant and add –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Drop the final e and add –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ahoma"/>
              </a:rPr>
              <a:t>Change the y to i and add –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nge the spell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id this when we changed a singular noun to a plural noun and with verb agreement t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Just add -ed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verbs can change from the present to the past by just adding –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I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al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terday I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alk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it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ra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ra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ester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f33"/>
                </a:solidFill>
                <a:latin typeface="Tahoma"/>
              </a:rPr>
              <a:t>Doubling the Final Consonan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present tense verb ends with one vowel and one consonant,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dou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final consonant and add –ed to make the verb change to past te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Dr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ba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dropp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ba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H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one fo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hopp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one fo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ahoma"/>
              </a:rPr>
              <a:t>Dropping the Final e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 present tense verb ends with a sneaky/silent e, 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drop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 and add –ed to make the verb change to past t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k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ka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gether at the r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li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sho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lik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hopping with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4:36:22Z</dcterms:created>
  <dc:creator> </dc:creator>
  <dc:description/>
  <dc:language>en-US</dc:language>
  <cp:lastModifiedBy>teacher</cp:lastModifiedBy>
  <dcterms:modified xsi:type="dcterms:W3CDTF">2010-11-23T18:59:44Z</dcterms:modified>
  <cp:revision>5</cp:revision>
  <dc:subject/>
  <dc:title>Changing Verbs From Present to Past</dc:title>
</cp:coreProperties>
</file>